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0B6E-931D-434D-9CEE-D7ED895B0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Неке медицинске гране су се реформисале и развиле, неке су постале самосталне науке, а скоро у свим гранама учињена су бројна открића и унапређењ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F2A-002D-43FC-99D4-CF2A13B393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рговац сук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89AA-62EB-49C5-B6FA-509C363FBC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F58-C1D7-49D0-9578-1C3724D1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C93-4C3E-4D1A-AD23-AA4D5BE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E9E6-910F-406A-A9D4-1E5B5C22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E93-6114-49CE-9063-08635F6C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12D0-8B3C-4916-A8E3-ACB9AE78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9EB2-B59A-4BF2-A59B-FAE5A74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BE6-3F27-4100-8F62-161363A0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85A-E157-41B7-9652-D2046D6A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8792-4D68-4E91-B6BE-2CF5C8A7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9966-674C-4B1E-BB14-17E9162F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980-C9AC-465B-AEA9-D92DFDEF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AA-7CC3-4FE4-AE13-E2A46077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0E29-EF4A-4079-B3AA-E96B59F0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D98A0-8C9D-408F-B684-1DA8952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91AA-756F-427B-8B91-6363F7A3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7C4-3F9A-42CF-BBDD-394CC3FB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D91C1-4133-4C76-939A-B77F74EB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ED83-59FD-460E-994B-A4CAC87C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3886-00C5-4F6A-98DB-B41F17EC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A795-5831-4D3F-AAD9-2520C230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81FA-AD6F-44FC-87DE-26419325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DFE4-4472-4DE2-B2D8-F9C95E38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E84-CBDB-451F-B41F-329883C9B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66469-9C43-4030-A5E4-B9060483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DEBC-BB09-4C83-8A72-F64A10D9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1B91-9128-4D12-B39C-027621DA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BDFF4-483D-40D9-84DF-AB7FA431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3251-3C5B-429D-823D-076F4950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0B86-133F-48B9-BF1F-D6190E20E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84BE0-445E-49DC-808B-77FEA757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DFFF0-2208-45C2-954A-C7432363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76A9C-F68A-4E21-9652-85C8944D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F56B-072C-49C3-8A06-384FF1F3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C23-8108-4B1C-8451-1A01806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9D995-E9AB-4C46-B92E-92B80676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2F3B-7460-4223-842C-AD643944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4C138-AEAF-41D2-B313-BBDBB601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C003-29A3-40E7-9711-68FB5ACF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E61B2-C265-4256-BDFF-A344F327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4F46D-1E01-4E02-B37B-86426CB2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CD15-EB57-4AEB-8875-3D8E23AD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C53E-EAE0-4195-BC99-421F02C6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F48D-0025-4F2D-BB59-861EB0B9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2BAD9-1589-4599-8740-95D2432F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BD4-5DDF-4AA5-AD97-FF61D650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A7E9-687A-4CA6-A4D3-E3C288C4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D291E-F22A-4826-A958-D106B588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4AC90-33F9-4086-8245-175A8251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CC6EC-D91E-4960-8CA2-FB3572B1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3DD90-A0AA-4A28-9B37-5C8D54BF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3E393-D6FA-4C9F-9B3F-804F6408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784F3-1D27-4A8F-9CC8-357A7678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DE6A-A6F9-4917-9C2D-1988A800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CCA53-9C4A-436F-A21B-876112E3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2BA7-89B9-4D1B-8C60-4B473635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374-DD6E-4E6E-A844-FADAACC0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A2416-C3C6-468A-9FFE-87C29EB7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051EC-2380-42AB-AFE2-8D6600CC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58E0-4A45-479E-99B1-F9FFDCD0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CE04C-97FF-454E-B75E-73AF4A6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91D4-168E-4309-B963-38A52C8C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8BD0-BAC8-4F95-9705-B8C9BA22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52DE0-A81C-445C-9349-A6E22381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ADB8-EA78-4F0E-A9DE-DFDE1CF6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238C7-344D-45B3-947D-10695D02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54AA6-0381-49CB-96D6-23BF5D4C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D68A-C0B3-4A86-942E-1F273D7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58096-8665-4A64-9C39-748E57A7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DA5E-29BD-4C1A-800C-B836BD4D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04EE-508C-413F-8009-418CFE6D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8A99F-1968-49C5-9D6B-7FDA7DC5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09794-160E-45BD-BF79-5C12BAE6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F93B4-1D84-4EA6-976C-CC513A67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B2C10-B010-4651-8209-C2ED174B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44CA-2E26-4107-B98F-40C51756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A2074-C0F8-42BA-9711-C5D799AF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D000-7375-4991-B828-B04D30F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8BA-C8EB-4761-9370-7AC4A75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640F7-B7A2-40F6-AE1B-69D0FD2E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5E4A8-7EBF-4CB7-8376-E2773BDE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D9FCA-7C85-40FE-AD21-87A4008F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F1CE1-DD56-43A8-B380-F488EC3E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564F-5DF1-4510-AA9F-CFD1F3E1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CE91C-3CD6-4CAF-B2B9-0B035B76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B42D-ED2C-49DF-BD94-077397A2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91760-F597-4F2E-A915-98EADDE4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55ABC-026F-4431-96AE-630FF6D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97738-C884-4B72-8EE2-4698905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DC0-65C9-41FC-9D3D-20C8C35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C371F-2644-47ED-852F-B034A548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0685-882D-430F-B604-B0294F6C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95DAD-30DF-421F-BB07-AE6325B5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78EF2-B2B6-48C6-BEBC-837BD45E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FDFD1-D5D5-453B-ADCC-8DD5619B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345A0-14B1-4A0A-8546-0F62B023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AC04B-DDC4-453B-9668-C4B5AFB5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8AE-F3CB-4E3F-9E5C-4D9C08B3E1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7C98-DA91-4A90-AD36-11C7166899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1BC3-3C7D-46D5-95A4-F0173D9EB6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2775-DDF8-43C2-9D68-00EC227504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605A-1D9E-4B3B-B1D4-2100199BAD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B025-B78B-4EE7-B27B-07A1E9E9E4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6931-8344-4B9A-BFC0-5321AB72F1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B1BA-0AC1-425E-A8F5-22A4D83F26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560520" y="2309760"/>
            <a:ext cx="83214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1920" y="45684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John Graun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и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Gottrfired Wilhelm Leibniz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Grau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игијен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оцијалну медицин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атистички метод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потреби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статистику з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учава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конитости и кретања становништв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ајбни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филозоф и математичар схват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начај статистике за медицин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терапији се јављају нови лекови: кинин, ипекакуана, кафа, чај, дуван а много се употребљавао и арсен, гвожђе и антимон и као новина минерална вода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51920" y="45684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А VIII века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ај век се назива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кок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то је барок XVIII ве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уређеније и тише, тек при крају века настаје покрет просвећено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у политичком смислу овај век је релативно мир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рактерише и афирмацијом и равноправношћу же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XVIII веку харале су епидемије и то: куга у Пруској, Украјни, Месини, Русији, А 1795/179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и код нас-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ремска куг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од које је умрло око 4000 љу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ларије, пегавца, дифтерије, пертусиса, шарлаха, дизентерије, инфлуенце, тифуса, вариоле и ендемског сифили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ајбни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 његовој филозофији све се састоји из неизмерно малих јединица-мон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28600" y="1218960"/>
            <a:ext cx="85406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градио је нов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и систем-механицистички систем, заснован на тадашњим филозофским теорија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уђе медицине је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куство и разу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Основно својство живе материје је тонус. Носилац тог тонуса је животни етер, налази се у целом телу а посебно у крви и из њега се у мозгу ствара мерни сок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лести настају као последица недостатка или вишка тону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 лечење је направио многе хемијске леков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знате с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његов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апи(мешавина алкохола и етр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55600" y="19080"/>
            <a:ext cx="843768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533520"/>
            <a:ext cx="822960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Hermann Boerhave (Херман Бурхав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(1668-17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ор у Лајдену, је студирао филозофију, геологију и медицин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хемијском погледу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о је састављено од земљане материје измешане са машћу и сољу. Болест је обољење чврстих и течних делова тела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чењу болести мора да предходи опажањ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лагао се да на факултету створи лекаре практичаре, а н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учник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примењује термометар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0520" y="45720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Gerhard van Switen (Ван Свитен)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(1700-1772)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Марија Терезиј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га је 1745. позвала у Беч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постао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њен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дворски лекар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Реформисао је бечки факултет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ор на бечком факултету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и од клерикалне институције створио светски познати универзитет и на њега позвао најпознатија имена Европе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Бечу је створио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бечку ветерину, школу за бабице, основао велику бечку болницу Allgemeine Kronnenhaus, находиште и лудницу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  <a:ea typeface="Calibri"/>
              </a:rPr>
              <a:t>1770. донео је здравствени закон који је примењивао у свим хабсбуршким земљама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добље највећих заоштравања друштвених супротности и револуционарних превир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врхунац у француској револуц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упротности и у науци и медицин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с једне стране  поја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реакционарних схватања и стерилних спекулација, а са друге стра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ач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фирмацији трезвеног научног истраживања и националног схватања природних и животних појав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здобље се зове и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добље рационализм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коме се одвија борба против застарелих схватања у медицин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304560"/>
            <a:ext cx="8229600" cy="57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jer Fošar (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Pierre Fauchar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)- Отац модерне стоматолог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728. издао своју књигу ”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 chirurgien denti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”, којом почињ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ово доба у стоматолог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Од тада се почињ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школовати посебни зубари-дентисти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који у лечењу зуба примењују медицинске метод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456840"/>
            <a:ext cx="823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лаже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атомију уста и зуба, описује структуру, облик и састав зуба. Разликује тело, врат и корен зу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Млечни зуби имају много коренова, као и стални.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ује болести млечних зуба и њихово лечењ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Недостаје му познавање ресорпције, јер не може да објасни како тај процес настаје код млечних зуба.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Што се тиче ницања зуба, мислио је да оно настаје раније или касније, зависно од грађе детета; каже да дете са снажним темпераментом има зубе већ при рођењ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 пример наводи краљ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уја XIV, који је дошао на свет са зубим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лести код одрасли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- р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зликовао је 103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које настају из разних узрока: спољних, сикривених, симптоматског карактера, као и услед спорадичних појава. Признаје важност и повезаност зуба са општим стањем организм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Историјске промен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Јачање грађанског сталежа до постепеног ликвидирања феудалног друштвеног система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Тридесетогодишњи рат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(1618-1648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век религиозних борби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творена велика колонијална царства: Шпанија, Португалија, Француска, Холандија, Енглес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 Руско царств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017720" y="268200"/>
            <a:ext cx="8437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685440"/>
            <a:ext cx="823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зна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им »машина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« (зубне протезе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Велика пажња 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вару зу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је познавао етиологиј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ријеса, 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бијао је теорију цр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Знао је како зубе треб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ржавати чистим, како отклонити кариозне масе, како каутеризирати и пломбирати зуб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лов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потребљава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истиће кала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јер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лато ниј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арио због тврдоће, пошто се оно није могл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бро адаптирати уз зидове кавитета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мењива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оловне листи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танке као папир, или још тање, јер је олово било популарн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бог ниске ц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уда и потиче назив »plombage« (од речи олово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990360"/>
            <a:ext cx="823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рв је уништавао усијаном иг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ојом је улазио у канал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ови за ублажавање бо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д зуба били с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ранфилић и уље од цим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 случајном откривању пулпе није дао метод, али је предлагао да се она одмах прекриј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685440"/>
            <a:ext cx="823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37240" indent="-165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ис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лвеоларне пиореј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класичан и савремен. Сматрао је д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узрок локалног карактера, »нека врста скорбу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«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рап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такође бил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окал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дстрањење зубног каменца, снажна масажа дес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нтискорбутичко испирање уст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пису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спирање уста ујутру и увече свежим урином. Тако је отклањао тешке болове код пацијен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току неколико дана, мада не пориче непријатност овог средст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37240" indent="-16596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је описао ширење лук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што представљ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ључ у ортопедији вил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мада би његове методе данас биле критиковане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990360"/>
            <a:ext cx="8236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на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зубе исправи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изгубљен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мении да разлабављене учврсти. Интересовао се за имплантацију, а нарочито за трансплант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При томе је радије употребљавао људске него животињиске зуб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ео је да ради непчане оптуратор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ива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одерне науке о зубном лекарству. Знао је да зубна медицина, ако жели да направи прогрес и постане призната грана лекарске вештине, мора да усвоји традицију медицинске професиј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45720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Моргањи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Calibri"/>
              </a:rPr>
              <a:t>(1682-1771)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већи анатом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г ве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служан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бројна анатомска открић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ивач патолошке анатом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отумачио поједине клиничке слике које су постојале за живота, пронашавши њихов анатомски супстрат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Хирургија 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е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остала сасвим равноправна са осталим гранама медицине, најпре у Француск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сноване и две нове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гране хирургије-урологија и ортопедиј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14264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Pjer Dezo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 ортопед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нова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у хируршк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ку у Париз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о урологију као нову хируршку гран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золов завој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Gijom Dipitre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1777-1835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најпознатиј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француски хирург на почетку XIX века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иса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многе хируршке болести и увео бројне оперативне метод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Anton de Haе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1704-1778) кога је van Switen позвао у Беч као истакнутог лекара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 је један од првих који је </a:t>
            </a:r>
            <a:r>
              <a:rPr b="1" i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потребио термометар за мерење температуре тел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04920" y="1294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 развој практичне клиничке медицине најзначајније ј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криће перкус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нове дијагностичке методе, коју је откри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Auenbruge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1754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ву методу одавно користе дрвосече ради процене стања дрвета које желе посећи, као и крчмари да сазнају колико има још пића у бурет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1819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год.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Laenek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открио и примени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ускултацију и стетоскоп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уенбургерову перкусију лекари нису прихватили и чак је био исмејан. Његова метода је прихваћена 1808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Филозофска миса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најзначајнија научна открића овог века значајно утицале н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медицинске мисл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учна удружења -  у Италији, Француској, Енглеској..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дружења су назван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адемија нау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”,издавање  научних часописи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суфицијенција аорте 1706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еморагична пурпура 1735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лагра 175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бц менингитис код деце око 1760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рихоцефалус 1762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шијас 1764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ловне колике 1767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гина пекторис 176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бц спондилитис 1769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уралгија тригеминуса 177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рума са егзофталмусом 1786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епило за боје 1798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425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а се помало диференцира и почињ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се назир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ци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пецијализ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тепено с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фирмисао превентив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ер у медици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ављају се и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чеци здравственог васпитањ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широких народних мас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295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Edward Jenn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1749-1823), енглески сеоски лекар у Берклију запази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је да људи који преболе кравље богиње, стичу имунитет према великим богињама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1796. је извршио вакцинисање осмогодишњег дечака James Phipps-a , давши материјал из пустуле служавке , која је имала кравље богиње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ва месеца касније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цеп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истог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чака гнојем великих богиња,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али је дечак остао здрав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о доказао ефекат пелцовања против великих богиња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670040" y="268200"/>
            <a:ext cx="8242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ско друштво не прихвата његов истраживачки подухват под изговором да срамоти своју репутацију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јављује своје откриће, издаје књижицу -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громан успех у целом свет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кон тога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бројне државе законом прописале обавезну вакцинацију против великих богињ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Аустрија (1807), Србија (1881)..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04920" y="838080"/>
            <a:ext cx="853416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XVIII ве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- 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снива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наставно-научних установа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а академија у Паризу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адемија наука у Берлину и Дрезден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чки медицински факултет и Војномедицинска академија- Jozefinum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кадемија хирургије и универзитетска клиника у Лајдену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универзитет и медицински факултет у Москви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-615960" y="2120760"/>
            <a:ext cx="8510760" cy="14875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0" y="185904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Период од друге половин XVIII до прве половине XIX века називамо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рационализмо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ачињени су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темељи модерној стоматологији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на медицина у Француској примљена је као грана хирургије, са законима  који регулишу њену праксу, нарочито у Париз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Да би стекао звање, кандидат је мора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добије диплом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»Expert pour les dents« или »Chirurgien dentiste«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ви декрет за регулисање стоматологије донет је  16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год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пуњен: 1692, 1699, 1741, и најзад, 1792. год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 важан корак у развоју стоматологије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95280" y="475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uis Fleury Lécluz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1712—1792) -  писац на пољу стоматологије, допринос својим студијама 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томији, патологији и терапији уста и зу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врћући се и на дент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струменте, од којих се нарочито истиче леватор, који је по њему добио своје им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uis Bernar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rechillet Jourdain (1734—1816), хирург. Св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четири своја де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менио је стоматологији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тј. хирургији вил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Прво дело појавило се 1756. год., а преведено је на енглески и немачки језик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својим студијама -  о хируршком лечењу уста, зуба и суседних делов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en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ourd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је по рангу одмах иза Faucharda. Његова прва књига, »Operations sur les dents«, појавила се 1754. год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 је зубни лекар Luja XIV и Luja XVI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јбоље његово дело, публиковано 1757. год., обухватало је исту област стоматологије као и Fauchardovo, а дао је и много оригиналних идеја, иако се у многим поставкама позивао на Fauchar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Wiliam Harve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енглески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лекар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удирао медицину у Кембриџу и Падови, а у Лондо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био дворски лека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17. априла 1616. год доказа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крв тече у кру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ли је тек у својој књизи издатој 162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научној јавности обелоданио своје откриће и тим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борио Галеново уч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Харвеј је математички израчунао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а срце за један сат избацује око 200 литара кр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, а за исто време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олико се не може створити у јет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те Галенова теорија нема реалну подлогу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1487520" y="268200"/>
            <a:ext cx="8504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Немачкој и Аустрији -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новно  интересовање за стоматолошку литератур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док су се до тада лекари бавили више практичним радо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јављују с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кторске дисерт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оје представљају истраживања  о денталној хигијени, о чувању зуба, терапији, етиологији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 1742. год. сва дела из области стоматологије писали су лекари или хирурзи, а не зубни лекари. С  појавом рационализма - публикације из стоматологије које пишу зубни лекар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8436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мачкој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гију реформиш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hilip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faf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1716—1780), зубни лекар Фридриха Великог.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ви Немац који је написао књигу из области стоматологије (»Расправа о зубима«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јављена је у Берлину, 1756. год., и дуго 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матрана као уџбеник,  обухватала  нарочито анатомију, патологију, терапију и протетик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лешке о отклањању пулпе без претходне каутеризације. Описан је начин одстрањења кариозних маса помоћу металног инструмента, обликовање настале шупљине, начин санације, и тек после тога пломбир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Уводи се прављење инлеја, који до тада нису помињан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Енглеској 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за разлику од Француске и Немачке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шка литература касно јављ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енглески писц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ису користили објављену литературу других на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оматолошка литература из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друге половине XVIII века – писци су се бавили истраживањем и објављивањем онога што су примењивали у пракс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323640" y="476280"/>
            <a:ext cx="84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Енглеска стоматологија разликује се од предходне две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Берберско-хируршко друштво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»Berber-Surgeon Company« које се 1796. год.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спа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, да би 1800. год. постало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»The Royal College 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f Surgeons of England«.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Бербери су наставили да рад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као »Tooth drawers« (з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убовадитељи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)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вршећи малу хирургију и денталне интервенциј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Током претходног века они су побољшали своје позиције и постали »Operators for the Teeth«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Нова група »Dentiste« почела је практичку зубну медицину око 1759. год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знати су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John Watts као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»Operator for Teeth«, а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Samuel Rutt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i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Samuel Gree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као »Dentiste«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hn H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1728—1793) - оснивач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перименталне и хируршке патолог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а истовремено 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ионир компаративне анатомије, физиологије и експерименталне морфолог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771. године »The Natural History of Human Teeth«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родна историја људских зу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778. год.  књига »A practical Treatise on the Human Teeth«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ктичан уџбеник о болестиима зуба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 сваки зуб се може трајним притиском постепено помицати и премештати на било које место у усној дупљи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152280" y="9140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Josep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Fox (1776—1816)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ченик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unter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806. год., »Natural History of the Human Teеth«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У уводу да је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untero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рад о зубима прва и велика научна студија која се до тада појавила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ез обзира на то што ј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unt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био  анат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unterov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радови означавају нову епоху у стоматолог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. Он је све закључке доносио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 основу научног разматр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тако да су његови радови стимулисали оне који су се бавили стоматологијом да исправљају грешке које су раније начинил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53964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кстракција зу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риозни зуб који боли, а бол не може да се ублажи леком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штар зуб који иритира и надражује језик, а не може да се поправи помоћу терапиј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псцес макисиларног синус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млечни зуб који није испао на време и који спречава растење сталног зуб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уб који расте неправилно, и на неприродном месту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нтраиндикација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ада су десни запаљене или када се запале за време лечења живом, то може да изазове ангину лудовиц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мена изгубљених зуба вештачк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утем трансплатације човечијег  или животињског зуба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зне врсте слоновач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рајем XVIII века порцелан и разне минералне паст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uch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- препоручивао »роза емајл« за обликовање десни око зуба да би изгледале природно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е материје за вештачке зуб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људски зуб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исте класе и врсте као изгубљени)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животињски зуб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од краве, вола, овце) којима се да облик изгубљеног зуба, од иловаче, слона, нилског коња, трансплантација живог зуба из уста једне особе у уста друге, минералне супстанције или порцулански зуб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ХВАЛА НА ПАЖЊ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Доказује  и методом огледа -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еца артерије огледних животињ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 и утврђује да нису празне и да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 садрже само ваздух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(како је погрешно, мислио Гален) већ да из њих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шикља крв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Из вена тече крв у правцу срца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-  утврдио је подвезивањем руке у лакту, услед чега вене набрекну од задржане крв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7002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Откриће Малпигија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1628.  откри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ј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лашца у бубрег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оја носе његово им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665.  открио 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еритроцит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за које је сматра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да су  честице масти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Сматра с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снивачем микроскопске анатом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Његов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ткриће није одмах прихваћ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од стране лекара и париског медицинског факултета.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пски лекар Ибн ан Нафис је описао мали крвоток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Не зна се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ко га је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први конструисао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, односно изумео микроскоп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реовлађује мишљење да је први проналазач микроскопа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Галилео Галилеј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Друго мишљење -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 израђен око 1600. од стране 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холандских брусача наочара Ханса 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  <a:ea typeface="Calibri"/>
              </a:rPr>
              <a:t>и његовог сина Zacharias Janssena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7002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служан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за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авршавање микроскоп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 његову приме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правио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419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кроскоп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 су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величава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40-160, па и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270 пут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675. год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апи воде открио је ситне животињице-инфузор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и так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правио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меље нове нау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кробиологије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672.год. 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равно је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ао еритроците  и упозорио да су то саставни делови кр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 не честице масти, како је сматрао Малпиги.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ви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део ток крви у крвним судовима-капиларима, у репу пуноглавац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ткри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пречне пруге мишићних влак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 влакнасту структуру очног сочива и објаснио акомодациј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ао је и протумачио сперматозоиде, које је открио лајденски студент медицине Јан Ха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907920" y="-31104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295280"/>
            <a:ext cx="86868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криће микроскоп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могућио је развој медицине и других наука, а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ебно ембриолог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Marcello Malpighi, професор анатомије у Болоњи је 166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крио капиларну циркулацију крв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i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de Graf, холандски анатом, је 1672.открио фоликуле јајника и описао фазе овул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акушерству је уведен форцеп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нглеска породица Chamberle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а је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пронаш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700280" y="268200"/>
            <a:ext cx="8443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08:23:12Z</dcterms:created>
  <dc:creator>MEDF</dc:creator>
  <dc:description/>
  <dc:language>en-US</dc:language>
  <cp:lastModifiedBy>Mirjana Petrovic</cp:lastModifiedBy>
  <dcterms:modified xsi:type="dcterms:W3CDTF">2020-02-14T08:40:21Z</dcterms:modified>
  <cp:revision>1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